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3F23-49CE-4DF6-ADE5-84A8677FEB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CBD5-D2A3-4E94-B52D-402204B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A3656-C82E-43A4-813B-A303492C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E62C-E872-4D0C-A9C4-B664E2BA8E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904B-E89C-40E2-99A7-FF4A3882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674D-83BE-4D73-A612-5C366870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0CE6-0E2D-4BE0-9485-7AC4877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0A865-26FD-4A63-84BD-E6A47C53B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6CCE2-8934-4A65-9291-8EFB4AD5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E935-15DE-4CD9-93C0-CC5A3019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6EA8B-2164-4421-9ABD-C82E0352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0571-6956-4C28-850F-4E19620F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DFE1-C47F-4079-9345-6E58B3C889B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db52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78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800" spc="-1" strike="noStrike">
                <a:solidFill>
                  <a:srgbClr val="ddb523"/>
                </a:solidFill>
                <a:latin typeface="Verdana"/>
                <a:ea typeface="宋体"/>
              </a:rPr>
              <a:t>第三十章    降血糖药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628640"/>
            <a:ext cx="7910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低血糖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血糖 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&lt; 2.77mmol/L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致死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及早发现，严重者立即注射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50%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注意鉴别低血糖昏迷、酮症酸中毒昏迷及非酮症性糖尿病昏迷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过敏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胰岛素耐受性（胰岛素抵抗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局部反应：脂肪萎缩、女性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   口服降血糖药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一、</a:t>
            </a:r>
            <a:r>
              <a:rPr b="0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磺酰脲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1080" y="1557360"/>
            <a:ext cx="8858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甲苯磺丁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tolbutamide, D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860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chlorprop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本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benclam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吡嗪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pizide)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齐特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clazipe)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、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格列美脲 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glimepride)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1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064720" cy="33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口服易吸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血浆蛋白结合率高于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90%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i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: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氯磺丙脲最长、约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6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小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主要在肝氧化成羟基化合物，从尿中排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降血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内源性胰岛素释放增加（胰岛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B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细胞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提高靶细胞对胰岛素的敏感性，增强靶细胞上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INSR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的数目和亲和力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水排泄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氯磺丙脲：促进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ADH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分泌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抗利尿作用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对凝血功能的影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（第三代磺酰脲类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使血小板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黏附力下降、刺激纤溶酶原合成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→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抗凝血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4761000" cy="12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7440" y="1916280"/>
            <a:ext cx="69091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胰岛功能尚存的非胰岛素依赖型糖尿病（饮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食控制无效）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对产生胰岛素耐受患者，可减少胰岛素用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尿崩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氯磺丙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1917360"/>
            <a:ext cx="8785080" cy="28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肠道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低血糖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枢神经系统症状     眩晕、嗜睡、共济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过敏反应      荨麻疹、粒细胞减少，黄疸及肝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52640"/>
            <a:ext cx="72010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物相互作用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923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其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他药物竞争结合血浆蛋白，使游离型药物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浓度上升引起低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氯丙嗪、糖皮质激素（肝药酶诱导）合用，作用减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口服避孕药使胰岛素分泌功能下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乙醇抑制糖异生、肝葡萄糖输出，合用可造成低血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920" y="907920"/>
            <a:ext cx="3960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二</a:t>
            </a:r>
            <a:r>
              <a:rPr b="1" lang="en-US" sz="4000" spc="-1" strike="noStrike">
                <a:solidFill>
                  <a:srgbClr val="046ca6"/>
                </a:solidFill>
                <a:latin typeface="Verdana"/>
                <a:ea typeface="宋体"/>
              </a:rPr>
              <a:t>. </a:t>
            </a:r>
            <a:r>
              <a:rPr b="0" lang="zh-CN" sz="4000" spc="-1" strike="noStrike">
                <a:solidFill>
                  <a:srgbClr val="046ca6"/>
                </a:solidFill>
                <a:latin typeface="Verdana"/>
                <a:ea typeface="宋体"/>
              </a:rPr>
              <a:t>双胍类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药理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促进葡萄糖无氧酵解和利用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慢肠道对葡萄糖的吸收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肝内糖异生和葡萄糖的生成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增强机体对胰岛素的敏感性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减少胰高血糖素释放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7128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轻症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胃肠道反应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乳酸血症及酮血症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3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三、胰岛素增敏剂</a:t>
            </a:r>
            <a:br>
              <a:rPr sz="3600"/>
            </a:b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(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针对胰岛素抵抗，提高机体对胰岛素敏感性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280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噻唑烷酮类化合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罗格列酮、吡格列酮、曲格列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80773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掌握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及其制剂的药理作用、临床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熟悉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磺酰脲类、双胍类的药理作用、临床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了解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胰岛素增敏药、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α-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葡萄糖苷酶抑制药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作用特点、临床应用和不良反应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96360" y="691920"/>
            <a:ext cx="8496360" cy="57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改善胰岛素抵抗、降低血糖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纠正脂质代谢紊乱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防治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型糖尿病血管并发症</a:t>
            </a:r>
            <a:br>
              <a:rPr sz="2800"/>
            </a:br>
            <a:r>
              <a:rPr b="1" lang="zh-CN" sz="2800" spc="-1" strike="noStrike">
                <a:solidFill>
                  <a:srgbClr val="8ac8de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0000" y="7646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产生胰岛素抵抗的</a:t>
            </a:r>
            <a:r>
              <a:rPr b="0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br>
              <a:rPr sz="4000"/>
            </a:b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2360" y="3141720"/>
            <a:ext cx="8615520" cy="317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华文中宋"/>
                <a:ea typeface="华文中宋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不良反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嗜睡、肌肉及骨骼痛、头痛、消化道症状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曲格列酮明显肝毒性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四、</a:t>
            </a:r>
            <a:r>
              <a:rPr b="1" lang="el-GR" sz="3600" spc="-1" strike="noStrike">
                <a:solidFill>
                  <a:srgbClr val="046ca6"/>
                </a:solidFill>
                <a:latin typeface="Verdana"/>
                <a:ea typeface="Times New Roman"/>
              </a:rPr>
              <a:t>α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  <a:ea typeface="宋体"/>
              </a:rPr>
              <a:t> -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葡萄糖苷酶抑制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87240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新型口服降糖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机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在小肠上皮刷状缘与碳水化合物竞争</a:t>
            </a:r>
            <a:r>
              <a:rPr b="0" lang="el-GR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 -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葡萄糖苷酶</a:t>
            </a: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，使葡萄糖生成减少、葡萄糖吸收延缓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  <a:ea typeface="宋体"/>
              </a:rPr>
              <a:t>服药期间增加碳水化合物的比例，并限制单糖摄入量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宋体"/>
              </a:rPr>
              <a:t>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360" y="406080"/>
            <a:ext cx="80773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病率在全球范围内呈上升趋势，成为全世界发病率、致残率、死亡率都高的疾病之一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IDDM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自身免疫性疾病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–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破坏，胰岛素分泌缺乏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型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胰岛素依赖性糖尿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 NIDDM)    95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上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β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细胞功能低下，胰岛素相对缺乏、胰岛素抵抗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INR)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   胰岛素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结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分子量为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56kD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的酸性蛋白质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两条多肽链以二硫键共价相连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B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链有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个氨基酸残基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6720" y="333000"/>
            <a:ext cx="783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体内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17120" y="1701720"/>
            <a:ext cx="82486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口服无效，必须注射给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代谢快，</a:t>
            </a:r>
            <a:r>
              <a:rPr b="1" i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t</a:t>
            </a:r>
            <a:r>
              <a:rPr b="1" lang="en-US" sz="2400" spc="-1" strike="noStrike" baseline="-25000">
                <a:solidFill>
                  <a:srgbClr val="8ac8de"/>
                </a:solidFill>
                <a:latin typeface="Verdana"/>
                <a:ea typeface="宋体"/>
              </a:rPr>
              <a:t>1/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仅为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9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分钟， 但作用可维持数小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主要在肝、肾灭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、长效制剂延长作用时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中、长效制剂均为混悬剂，不可静脉注射）</a:t>
            </a:r>
            <a:endParaRPr b="1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5560" y="914400"/>
            <a:ext cx="9136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药理作用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物质代谢过程广泛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糖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增加葡萄糖转运，加速氧化和酵解，促进糖原合成     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贮存，抑制糖原分解和异生，降低血糖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脂肪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脂肪酸转运增加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FFA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酮体生成减少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合成增加，分解减少，促进生长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钾离子转运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激活钠、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- ATP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，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内流增加，胞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K</a:t>
            </a:r>
            <a:r>
              <a:rPr b="1" lang="en-US" sz="2400" spc="-1" strike="noStrike" baseline="30000">
                <a:solidFill>
                  <a:srgbClr val="046ca6"/>
                </a:solidFill>
                <a:latin typeface="Arial"/>
                <a:ea typeface="宋体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浓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度增加。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6360" y="909720"/>
            <a:ext cx="8804160" cy="53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981000"/>
          <a:ext cx="7416720" cy="5518080"/>
        </p:xfrm>
        <a:graphic>
          <a:graphicData uri="http://schemas.openxmlformats.org/drawingml/2006/table">
            <a:tbl>
              <a:tblPr/>
              <a:tblGrid>
                <a:gridCol w="762120"/>
                <a:gridCol w="1422360"/>
                <a:gridCol w="993600"/>
                <a:gridCol w="1059120"/>
                <a:gridCol w="1058760"/>
                <a:gridCol w="1058760"/>
                <a:gridCol w="1062000"/>
              </a:tblGrid>
              <a:tr h="316080"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                       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常用胰岛素制剂的特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类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药物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注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途径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作用时间（小时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给药时间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始       高峰          维持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普通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静脉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立即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急救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0.5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5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小时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~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4240">
                <a:tc row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中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低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珠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~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胰岛素锌混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或晚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长效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鱼精蛋白锌胰岛素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~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~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结晶胰岛素锌悬液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下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  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早饭前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0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钟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次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/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日</a:t>
                      </a:r>
                      <a:endParaRPr b="0" lang="en-US" sz="1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3809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临床应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7640" y="1294920"/>
            <a:ext cx="9001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糖尿病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型糖尿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(IDD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）、 非胰岛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依赖型糖尿病经饮食控制及口服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糖药未能控制者、 伴急性代谢并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症糖尿病、伴合并症糖尿病、 继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性糖尿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4160" y="1198080"/>
            <a:ext cx="889128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细胞内缺钾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由胰岛素、葡萄糖与氯化钾按一定比例配成极化液，纠正细胞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内缺</a:t>
            </a:r>
            <a:r>
              <a:rPr b="1" lang="en-US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K</a:t>
            </a:r>
            <a:r>
              <a:rPr b="1" lang="en-US" sz="3200" spc="-1" strike="noStrike" baseline="30000">
                <a:solidFill>
                  <a:srgbClr val="8ac8de"/>
                </a:solidFill>
                <a:latin typeface="华文中宋"/>
                <a:ea typeface="华文中宋"/>
              </a:rPr>
              <a:t>+ </a:t>
            </a:r>
            <a:r>
              <a:rPr b="1" lang="zh-CN" sz="3200" spc="-1" strike="noStrike">
                <a:solidFill>
                  <a:srgbClr val="8ac8de"/>
                </a:solidFill>
                <a:latin typeface="华文中宋"/>
                <a:ea typeface="华文中宋"/>
              </a:rPr>
              <a:t>；</a:t>
            </a:r>
            <a:r>
              <a:rPr b="1" lang="zh-CN" sz="3200" spc="-1" strike="noStrike">
                <a:solidFill>
                  <a:srgbClr val="8ac8de"/>
                </a:solidFill>
                <a:latin typeface="Arial"/>
                <a:ea typeface="宋体"/>
              </a:rPr>
              <a:t>提供能量，防治心律失常</a:t>
            </a: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高钾血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2:37:51Z</dcterms:modified>
  <cp:revision>3</cp:revision>
  <dc:subject/>
  <dc:title>   第三十章    降血糖药</dc:title>
</cp:coreProperties>
</file>